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938E-B7D0-4DD4-919F-9E04A95A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18D6-785B-4C16-B18A-976116F1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4305-8CBD-4CFB-8FA0-17826730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C191-5E81-4561-BB8E-DC7C071D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8513-9584-46B2-9CAC-47021934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9694-B88F-4801-A8EC-067F0A77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6454-7BC4-4A4D-99DA-37DB4890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AD48-AEC5-47D9-B3FA-188EF74D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7EB9-60A2-4C57-96D7-D27E0989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6CD7-17C8-41D8-BBAB-EA68C9CD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487A-E787-44DF-BEB3-38C14DD8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FA10-AAD5-4C4F-B47B-A6DF3957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6FC7-B129-42F3-AFF0-1B36BFE9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404F-A41A-476B-9271-BC845C43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B644-D7F3-4B69-8353-D5C2B717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9A9D-EC96-47F8-8688-7325A61B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1F54-D160-4490-946A-53512A19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2DE5-C91B-4BAB-8256-C9128DCD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B57C-2907-4FCC-AF32-DDFA1BDB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F574-7B6E-468D-B5F4-E007E962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C3E-0FBE-4995-9525-F4CC6499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585E-1D5D-4CEE-B278-007C4F59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B5B8-A5E6-4E00-94B2-201C31E0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0DF9-B02D-47DA-A121-A5B14B20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ED36-15CF-4584-BB96-7986E13A03E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E853-C9E5-4D5A-8AFC-C0F569F2BD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0BE2-E870-41BB-BA3C-2E9C20FDEE6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9F03-B48F-4120-A01E-426CE9DC6B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44DC-FA81-4691-933B-249EAD92291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139B-D393-49EC-9C9C-25CC72784A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14600" y="3808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Federal Court System</a:t>
            </a:r>
            <a:endParaRPr b="1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. Balaz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F546-83C4-4FEA-BCE6-5CEB3705B7B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3DB6-FEB3-4D11-A5E7-3ECC0557B7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Administrative Ruling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gency established by Congress and the Executive makes a ruling regarding an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ample: Environmental Protection Agency (EPA) determines the amount of Arsenic allowed in drinking water should be reduced. A Town water supply in Arizona is effected and s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ample: US Parks Service rules that wolves should be reintroduced to Yellowstone Park. A rancher sues the US government maintaining that his cattle will be endanger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ample: Interest group sues Health and Human Services claiming that the waivers granted to some businesses for Healthcare are improper---BUT? DO THEY HAVE STANDING??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B71D-03F3-4E20-90FC-F1706B6B122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7291-6309-4EDF-B5DE-B0BE63BFF0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Federal Treatie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Treaties under the US Constitution become Federal Law and are Supreme to Stat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signs a multilateral treaty requiring that when a foreign national is arrested the foreign citizen’s home embassy must be notif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mple: Defendant, a foreign national, is convicted of murder claims that his rights were violated when his embassy wasn’t notifi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F751-0BC0-4EAA-A977-C5545856E18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83BA-415F-475F-B3A3-3D8A055D38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iversity of Citizenship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case involves two parties from different States they can choose to begin the case in Federal Court provided the case involves more than $5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Why did they make this a FEDERAL cas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LOTS OF PERSONAL INJURY CASES—SOME CONTRACT CA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4343-4F55-4A45-B8BD-FD1E841710A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22FC-1214-445C-BB38-B07DF27C99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Other Cases 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s suing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Y and NJ have a law suit to help determine who owns Governors Isla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RE—how many times do states argue about border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those rare original jurisdiction cases for the Cou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6506-1433-4953-A494-4AEF208B92D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7F77-9DE3-4F13-A385-19E4854CA6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ich Federal Court do I go to?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 divided the US into 12 Circu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Circuit is then divided into parts with at least one Federal District Court in each Stat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90%+ of all cases that start in the Federal System begin in Federal District Court- (there’s a bunch of administrative court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ederal District Courts are present in most major Ci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B272-4BA6-4B38-B78A-F4E84BDC6FD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726C-8A1B-4EE5-B697-59E1BA3F75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09324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mapusct"/>
          <p:cNvPicPr/>
          <p:nvPr/>
        </p:nvPicPr>
        <p:blipFill>
          <a:blip r:embed="rId2"/>
          <a:stretch/>
        </p:blipFill>
        <p:spPr>
          <a:xfrm>
            <a:off x="380880" y="152280"/>
            <a:ext cx="8382240" cy="6321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3988-5DC5-4CA9-8C02-61B3523C93A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Appellate Court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eral Circuit Courts and except in rare cases, the US Supreme Court are Appellate Cour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ppellate Court DOES NOT TRY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llate Courts are designed to review mistakes made at the Trial Cou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Except in rare cases, a trial must have gone to verdict before anything can be appeal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“objecting” an attorney preserves the issue so that it can potentially later be appea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st appellate briefs are generally limited to matters preserved at the trial lev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7D39-2D29-4916-8F61-B170DB5D4F0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D3FE-6C64-43D9-A259-87BD7A5B49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US District Court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e the Case in US District Cou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y the fe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o poor to pay fee, Court can hold the Fee is waived - In Forma Pauperis (true with ALL FILING FE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rve the summons and complaint on the other Par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Civil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er- Petition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rson getting sued? Respond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nerally an Issue of Liability (fault) and $$$$$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Criminal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ited States is the Plaintif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rrestee is the Defendan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ury Trial is automatic if Defendant can get 1 or more years of incarceration. Only Defendant can waive i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animous Jury finding required-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8368-3377-4600-9F2C-71CA9F8E98A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1B06-5DB1-47BF-A9D1-A66B5A90A3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US Circuit Court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Circuit Courts are Appellate Cou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a trial in US District Court the disgruntled litigant can try to appeal the case to US District Cou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tate Court cases can also be appealed to US Circuit Cou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Circuit Courts must hear all cases properly f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D328-630F-42A1-BB8B-94DD4188053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AF57-ABA3-4ED7-8BC9-7B3D17644A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US Supreme Cour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e Case with the Cou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retionary Jurisd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t least 4 judges must certify (grant certiorari) to hear the c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st cases, 90%+, are not hear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9.9% only appellate Jurisd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 Judges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ief Judge runs the Courthouse and when holding with the majority decides who writes the opin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52280" y="685800"/>
          <a:ext cx="8686800" cy="625788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695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imin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v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695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e prosecu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vidual, organization, State s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695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rant/Arrest/Grand Jury/Indictment- Fed system requires Grand Jury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ng Complai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695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alizes- Malum per se/Prohibi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nsation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695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il-Loss of Liber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$$$-payb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695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matic Jury Trial righ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be Ju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695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minmous Ju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ority/Supermajor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695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of beyond Reasonable Doub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onderance of the Evid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695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NT GENERALLY REQUI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GLIGENCE OFTEN SUFFI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</a:tbl>
          </a:graphicData>
        </a:graphic>
      </p:graphicFrame>
      <p:sp>
        <p:nvSpPr>
          <p:cNvPr id="90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7B4C-A4D6-4933-972B-7E0C16868C6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566D-ECBC-44F0-BD37-20C3440177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3A0A-2AF9-4A43-8D11-6E207715836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B0C6-C23F-45FD-81BB-6C22A1E3E2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ommon  Law OR Case Law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ower courts are bound by the decisions determined by higher cou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 Supreme Court is the highest Court in the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ier Holdings- Set Precedent (CASE LA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e Decisis- NOT A DISEASE- BUT THE COURT’S RELUCTANCE TO OVERTURN ITS OWN PRECE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US Supreme Court does not rule on an issue, different States and different Circuit Courts may have different rul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icial Review- The right of the Court to review the actions of the legislative and executive branches. NOT SPECIFICALLY SET FORTH IN US CONSTIT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B976-9CE8-4A99-9BD2-970CFE87A80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BDFC-F7CA-47A3-B1DA-BC95F3B2B4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Law 101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titioner sues Respon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aims Jurisdiction under Federal Question or other mea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ial held in US District Cou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ury makes hol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happy Litigant files Appeal in Circuit Cou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aims Trial Court made an error of LAW (not fac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ler-Appellant, other party- Appelle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rcuirt Cou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ppellant files fe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oth parties file briefs (reports setting forth the legal arguments with case law to back them 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ies make oral argument ( not a retrial- no evidenc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ircuit Court makes a deci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0175-A547-4A97-B52E-F1E15ACE526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30B6-B42A-4616-8972-35E9B4E400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Law 101a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rcuit Court makes ho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erse lower court on the issue presented with instructions (remand) to Trial Judge. This may require a new trial at the District Cou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ss the Appellant’s Case- Trial Court ruling ho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set of Judges hear the case and there may be a majority and minority deci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gruntled Party may try to file case with US Supreme Court request’s CERTIORA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les case with US Supreme Court- BECOMES APPELL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urt reviews to determine if this is the “type” of case they should hea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the Court says no- prior Circuit Court ruling hol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4 of 9 Judges agree to hear the case, case is hea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65B0-D6A3-464A-A05B-91EA6D38851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65D9-261D-4948-8608-8244F071BA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Meet the Supreme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720" y="1600200"/>
            <a:ext cx="678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 Judges they get to ask questio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al Argument (30 minutes each) and a brief is fi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rt makes ruling- A 5-4 decision is as binding as a 9-0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ef Judge is the “first amongst equals” (ok…that’s supposed to be the Pope)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J helps run the Court as a “bureaucracy”, makes sure the trains run on time (ok…that was Mussolini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CJ is w/the majority---than s/he decides who writes dec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opinion has to get 5 Judges (if 9 are vot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urring Opin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senting Opinions- dissent in Plessy v. Ferguson -&gt; underlying theory for majority in Brown v. Bd of 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dies? See above for Appellate Cou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C779-C92C-44E7-BC3B-AFC6BDADF02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D2CA-5326-404D-99A5-9D790519D2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More info?</a:t>
            </a:r>
            <a:endParaRPr b="1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752480" y="2971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uscourts.gov/faq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State Court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jud.state.ct.us/courts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en can I go to Court?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94920" y="15998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ing- am I the one harm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iciability- is there a remed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peness- Has the event happened?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ADVISORY OPINIONS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- Can I get an attorney and/or pay the filing fe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bout Class Actions-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ertified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. Women employees suing Wal-Mart- one class?  Families of everyone who’s injured by toyota brake ped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04F3-675F-41CE-B0E6-9F39E3D467A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BD6E-9CE5-4159-B312-6FCB7ABB97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TATE v. FEDERAL COUR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“federal” matter more important?NOOOOOOOOOOOOOOOOOOOOOOOOOOOOOOOOOOOOOOOOOO—it might b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chooses the Cour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ook to where the event took pla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ivil suit- residence of pa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me cases can go to either—some cases can’t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AC49-3A01-493C-A015-1E275C9C82A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C689-90F3-46DD-BFFE-A007B4AE39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5A2D-1F86-45B0-B286-5F1BC34B444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42A4-0478-4F52-9996-6BE2DD2A8A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FEDERAL COURT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Supreme Cou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stablished by Constitu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llate v. Original Jurisdi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llate—case decided, check for question of law—NOT F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iginal Jurisdiction—here’s the full 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er US Circuit Courts and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ed by Congr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3495-FB4C-40C9-AEA5-091FA09571C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90F4-93C8-4868-890B-B7A8B35697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Federal Court Jurisdiction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82880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s arising out of Federal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titutional La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ederal Law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ecutive Ord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ministrative Rul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ederal Trea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versity of Citizenship (not national citizenship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es v. Sta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134C-8587-46D4-AA8B-F5C3DD732EC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D857-C2C6-42CE-8B2D-F6D03FA1EF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onstitutional Law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arty claims that there case involves a Constitutional Qu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ohn is denied admission to the Univ of Michigan and sues the school claiming that his 14th Amendment Equal Protection rights were violated when the school used race as a factor in its admission polic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th is arrested for murder and claims that her 4th Amendment rights against improper search and seizure were violat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overnor Bush sues VP Gore claiming that his 14th Amendment rights to Equal Protection will be violated if Florida recounts only certain districts ballo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te Attorney Generals allege that the Health Care Law violates the 9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mend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E55B-8CE2-4FFE-8617-1F0E9B9AA84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9117-9F08-4BA5-8C65-47649DD196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ases involving Federal law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s passed by Con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mple Casey Martin and the Americans w/Disabilities A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n sues US PGA to allow him to use a golf cart on the pro circuit claims that he’s protected by the American w/Disabilities Act (NOTE HE’S NOT SUING THE US GOVERNMENT BUT USING A FEDERAL STATUTE TO BASE HIS LAWSU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48EF-1D0C-4810-BF4E-3E8FD3C74E0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894C-8B37-4B3D-8534-6CC90528AF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Executive Order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ident signs an order and someone effected by the Order begins a laws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Executive Order President Carter freezes Iranian assets after the US Embassy is taken o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suit by a creditor to obtain mon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Administrator</cp:lastModifiedBy>
  <cp:lastPrinted>1904-01-01T00:00:00Z</cp:lastPrinted>
  <dcterms:modified xsi:type="dcterms:W3CDTF">2011-04-12T13:48:54Z</dcterms:modified>
  <cp:revision>30</cp:revision>
  <dc:subject/>
  <dc:title>General</dc:title>
</cp:coreProperties>
</file>